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40F-97EA-40F8-8611-569DAE8A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499-EA7A-4FD0-9925-957EC5C2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5AD-00C6-4132-BEA2-D73E4445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644-77CD-4B49-9BD2-ECCAFD1E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44F6-2AE1-48DC-A8EC-FB334165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7279-32E9-4324-874A-DD8C3328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4C00-7F82-402F-B70E-501345E6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90AB-BB7F-4102-B975-48A0F87A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4D97-3791-42AE-AA98-3401C0E4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9124-712F-4196-A316-4BF8ED14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DDEC-7EFF-4991-91AA-B371BCF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A67-0104-4FBB-936B-0FEAD6AC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6F02-7699-4F8A-BCCA-AB0FD93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1BA8-F2BF-4B9F-A212-092F05A2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4827-C834-4F5A-AC37-DFE0D6DE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3106-7261-425B-A00F-DB33518F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CA4E-102C-461C-8AA3-F48B692F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224-2B89-4ED2-933E-798E1DA6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5EB-9796-426A-ACA8-96012327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587-BB3A-4326-94A5-14AB7753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FE4-7D7E-4B9C-9DD9-C85523B7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6DD-08B9-47E4-9E13-AF2AE33C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858-363D-4B4F-BB59-144F55ED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FE9-27DA-4A35-8838-05F5D2C9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ADD7-48FD-4240-901A-2B704DAAB1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7567-029F-4AC3-A2E4-99A011C3CE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’m Thinking of a W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 way to revi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ot just for literature class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trategy can be used in any classroom, where there are new words a teacher wants the students to learn, so basically any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I’m thinking of a word that we discussed in our study of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thinking of a word that we use daily in math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 Literature cla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vocabulary list for the week includes the wor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a quick activity to just review new words. Doesn’t have to involve any handout, can just be a quick game-like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228240"/>
            <a:ext cx="6324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thinking of a word that is in this weeks vocabulary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the word are: a wide opening, or staring in wonder or fasc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amples of the word are: look, g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d is usually used as a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d is never used to describe someone looking around in bore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d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p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t means to stare in fascination or wonder. It can be used in the following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irl’s shirt was so low-cut that all the boys ga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3:51:48Z</dcterms:created>
  <dc:creator> C02</dc:creator>
  <dc:description/>
  <dc:language>en-US</dc:language>
  <cp:lastModifiedBy> C02</cp:lastModifiedBy>
  <dcterms:modified xsi:type="dcterms:W3CDTF">2011-06-01T14:20:00Z</dcterms:modified>
  <cp:revision>2</cp:revision>
  <dc:subject/>
  <dc:title>I’m Thinking of a Word</dc:title>
</cp:coreProperties>
</file>